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3D1-05D2-49F2-9EBE-768B756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577-C5A6-4201-A83D-0B26D4E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965-EADE-46D2-801E-6C2C7AA7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51F-A814-4BCA-A5E4-F5A5A0B4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8E6-DA7A-4940-8A16-2E5D01B7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859-9EB6-4658-812D-E0A23226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45E-8C3B-40D5-BCFD-845B5E9F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983-1533-43FF-8883-36C2A17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43D-C7D6-4710-BFD6-B324242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C9E-E18B-44B4-9291-55C81CF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CBF-DD51-4836-B02C-1D2954A0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96C-3FE7-4219-8FD3-251D983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BDC-068A-4846-B3D2-2F6D06AAE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857760" y="60721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оставлена: учителем биологии Колесовой  Е.В. МБОУ СОШ № 6 г. Кольчуг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8:10:21Z</dcterms:created>
  <dc:creator>Елена</dc:creator>
  <dc:description/>
  <dc:language>en-US</dc:language>
  <cp:lastModifiedBy>USER_PC</cp:lastModifiedBy>
  <dcterms:modified xsi:type="dcterms:W3CDTF">2014-02-11T17:34:23Z</dcterms:modified>
  <cp:revision>4</cp:revision>
  <dc:subject/>
  <dc:title>Слайд 1</dc:title>
</cp:coreProperties>
</file>